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39E0-121B-4A95-ACDC-64D227A0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9C92-6683-4D11-B5E9-F6441CFA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15BD-1E1E-4E04-809F-B06D6326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D5F8-EF2E-4BFC-BAB6-B77E4689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B1E6-35DC-4192-B02D-73D45912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567C-7C52-44F0-84F4-2D18C68A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331A-8185-49D1-A40D-2C510EA5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B698-5422-4508-8E0D-C0EB4EF4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05D5-6D82-45BF-BBF0-B59EBF16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5E71-AAF8-49D0-B53C-8321E41C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9302-04B3-4C88-9861-5B0F251E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A37F-A56D-491C-BB31-2CCA9D3C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43A3-CDC7-4A13-B212-3805A580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3EB7-C3F0-410B-B1E2-DBA13FAB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69BC-2122-4725-ABC9-82FDE5BB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1609-9CB3-40C6-B602-DB708B93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FCF3-B371-4CFC-A123-75CCB154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D4F5-152D-4376-972A-C79ABE63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AEE6-556E-4ADF-BEE1-36427506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375C-EF14-4CD4-9234-1BF21AF5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9D57-E48E-40DF-9CAD-970EFA35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C5D4-CCF7-4EE7-A35D-EAD09B7F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0386-64DD-4203-8DC1-50D91DC8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4384-2167-4FE0-8D66-134A5858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0723-BF8B-40F2-AD13-87B3AE07B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542B-063D-4EB2-83A4-5C9945DB52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Доповідь заступника голови Харківської обласної державної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адміністрації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Алексейчука В.В.</a:t>
            </a:r>
            <a:br>
              <a:rPr sz="3200"/>
            </a:br>
            <a:br>
              <a:rPr sz="3200"/>
            </a:b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Стратегічні напрями розвитку сільського господарства на період </a:t>
            </a:r>
            <a:br>
              <a:rPr sz="3600"/>
            </a:b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2011-2015 та до 2020 року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7 лютого 2011 року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64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Виробництво картоплі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27640" y="333360"/>
            <a:ext cx="4465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Виробництво овочі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139680" y="1989000"/>
          <a:ext cx="4470480" cy="38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989000"/>
                    <a:ext cx="447048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7"/>
          <p:cNvGraphicFramePr/>
          <p:nvPr/>
        </p:nvGraphicFramePr>
        <p:xfrm>
          <a:off x="4673520" y="1968480"/>
          <a:ext cx="4356360" cy="389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73520" y="1968480"/>
                    <a:ext cx="43563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Виробництво кормів в кормових одиницях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Object 11"/>
          <p:cNvGraphicFramePr/>
          <p:nvPr/>
        </p:nvGraphicFramePr>
        <p:xfrm>
          <a:off x="396720" y="1676520"/>
          <a:ext cx="847728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1676520"/>
                    <a:ext cx="84772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600" spc="-1" strike="noStrike">
                <a:solidFill>
                  <a:srgbClr val="e5e5ff"/>
                </a:solidFill>
                <a:latin typeface="Arial"/>
              </a:rPr>
              <a:t>Співвідношення між нормою споживання і обсягами виробництва продукції тваринництва в Харківській області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9280" y="1413000"/>
          <a:ext cx="8785440" cy="6470640"/>
        </p:xfrm>
        <a:graphic>
          <a:graphicData uri="http://schemas.openxmlformats.org/drawingml/2006/table">
            <a:tbl>
              <a:tblPr/>
              <a:tblGrid>
                <a:gridCol w="1079640"/>
                <a:gridCol w="1482840"/>
                <a:gridCol w="1096920"/>
                <a:gridCol w="880920"/>
                <a:gridCol w="1436760"/>
                <a:gridCol w="1359000"/>
                <a:gridCol w="14493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інімаль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орм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поживання 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 особу  з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рік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г; шт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Вироблено у 2009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Забезпече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за рахун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влас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виробництва д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ініма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ї норм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пожи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бсяги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виробництв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еобхідні дл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забезпеченн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інімальної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орми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поживання,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тис. тонн;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лн. шту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е вистачає (-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адлиш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+) продукції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д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інімальної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отреби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тис. тонн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лн. шт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</a:tr>
              <a:tr h="393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всього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ти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тонн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л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штук</a:t>
                      </a:r>
                      <a:r>
                        <a:rPr b="1" lang="uk-UA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а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со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рік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г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шт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1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52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’яс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сіх вид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у заб. ваз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6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64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0ea00"/>
                          </a:solidFill>
                          <a:latin typeface="Arial"/>
                          <a:ea typeface="Times New Roman"/>
                        </a:rPr>
                        <a:t>Яйц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0ea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0ea00"/>
                          </a:solidFill>
                          <a:latin typeface="Arial"/>
                          <a:ea typeface="Times New Roman"/>
                        </a:rPr>
                        <a:t>98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0ea00"/>
                          </a:solidFill>
                          <a:latin typeface="Arial"/>
                          <a:ea typeface="Times New Roman"/>
                        </a:rPr>
                        <a:t>3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0ea00"/>
                          </a:solidFill>
                          <a:latin typeface="Arial"/>
                          <a:ea typeface="Times New Roman"/>
                        </a:rPr>
                        <a:t>1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0ea00"/>
                          </a:solidFill>
                          <a:latin typeface="Arial"/>
                          <a:ea typeface="Times New Roman"/>
                        </a:rPr>
                        <a:t>66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0ea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uk-UA" sz="2000" spc="-1" strike="noStrike">
                          <a:solidFill>
                            <a:srgbClr val="f0ea00"/>
                          </a:solidFill>
                          <a:latin typeface="Arial"/>
                          <a:ea typeface="Times New Roman"/>
                        </a:rPr>
                        <a:t>+323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0ea00"/>
                      </a:solidFill>
                    </a:lnL>
                    <a:lnR w="18720">
                      <a:solidFill>
                        <a:srgbClr val="f0ea00"/>
                      </a:solidFill>
                    </a:lnR>
                    <a:lnT w="18720">
                      <a:solidFill>
                        <a:srgbClr val="f0ea00"/>
                      </a:solidFill>
                    </a:lnT>
                    <a:lnB w="18720">
                      <a:solidFill>
                        <a:srgbClr val="f0ea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Динаміка поголів'я корів на   кінець року </a:t>
            </a:r>
            <a:br>
              <a:rPr sz="36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                                                </a:t>
            </a:r>
            <a:r>
              <a:rPr b="1" lang="uk-UA" sz="2400" spc="-1" strike="noStrike">
                <a:solidFill>
                  <a:srgbClr val="e5e5ff"/>
                </a:solidFill>
                <a:latin typeface="Arial"/>
              </a:rPr>
              <a:t>тис. голів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4" name="Object 7"/>
          <p:cNvGraphicFramePr/>
          <p:nvPr/>
        </p:nvGraphicFramePr>
        <p:xfrm>
          <a:off x="330120" y="1955880"/>
          <a:ext cx="852192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955880"/>
                    <a:ext cx="852192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Динаміка виробництва молока</a:t>
            </a:r>
            <a:br>
              <a:rPr sz="36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                                                 </a:t>
            </a:r>
            <a:r>
              <a:rPr b="1" lang="uk-UA" sz="2800" spc="-1" strike="noStrike">
                <a:solidFill>
                  <a:srgbClr val="e5e5ff"/>
                </a:solidFill>
                <a:latin typeface="Arial"/>
              </a:rPr>
              <a:t>тис. тон</a:t>
            </a:r>
            <a:r>
              <a:rPr b="1" lang="uk-UA" sz="2200" spc="-1" strike="noStrike">
                <a:solidFill>
                  <a:srgbClr val="e5e5ff"/>
                </a:solidFill>
                <a:latin typeface="Arial Black"/>
              </a:rPr>
              <a:t> 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7" name="Object 10"/>
          <p:cNvGraphicFramePr/>
          <p:nvPr/>
        </p:nvGraphicFramePr>
        <p:xfrm>
          <a:off x="230040" y="1600200"/>
          <a:ext cx="8709120" cy="49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00200"/>
                    <a:ext cx="87091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uk-UA" sz="3200" spc="-1" strike="noStrike">
                <a:solidFill>
                  <a:srgbClr val="e5e5ff"/>
                </a:solidFill>
                <a:latin typeface="Arial"/>
              </a:rPr>
              <a:t>Динаміка реалізації великої рогатої худоби на забій </a:t>
            </a:r>
            <a:br>
              <a:rPr sz="3200"/>
            </a:br>
            <a:r>
              <a:rPr b="1" lang="uk-UA" sz="3200" spc="-1" strike="noStrike">
                <a:solidFill>
                  <a:srgbClr val="e5e5ff"/>
                </a:solidFill>
                <a:latin typeface="Arial"/>
              </a:rPr>
              <a:t>в живій вазі</a:t>
            </a:r>
            <a:br>
              <a:rPr sz="36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                                                  </a:t>
            </a:r>
            <a:r>
              <a:rPr b="1" lang="uk-UA" sz="2800" spc="-1" strike="noStrike">
                <a:solidFill>
                  <a:srgbClr val="e5e5ff"/>
                </a:solidFill>
                <a:latin typeface="Arial"/>
              </a:rPr>
              <a:t>тис. тонн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246240" y="2247840"/>
          <a:ext cx="865152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2247840"/>
                    <a:ext cx="865152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uk-UA" sz="2200" spc="-1" strike="noStrike">
                <a:solidFill>
                  <a:srgbClr val="e5e5ff"/>
                </a:solidFill>
                <a:latin typeface="Arial Black"/>
              </a:rPr>
              <a:t> </a:t>
            </a: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Динаміка реалізації свиней на забій в живій вазі</a:t>
            </a:r>
            <a:br>
              <a:rPr sz="36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                                                  </a:t>
            </a:r>
            <a:r>
              <a:rPr b="1" lang="uk-UA" sz="2800" spc="-1" strike="noStrike">
                <a:solidFill>
                  <a:srgbClr val="e5e5ff"/>
                </a:solidFill>
                <a:latin typeface="Arial"/>
              </a:rPr>
              <a:t>тис. тонн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3" name="Object 17"/>
          <p:cNvGraphicFramePr/>
          <p:nvPr/>
        </p:nvGraphicFramePr>
        <p:xfrm>
          <a:off x="254160" y="1854360"/>
          <a:ext cx="866124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854360"/>
                    <a:ext cx="8661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62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e5e5ff"/>
                </a:solidFill>
                <a:latin typeface="Arial Black"/>
              </a:rPr>
              <a:t> </a:t>
            </a: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Динаміка реалізації птиці на забій в живій вазі</a:t>
            </a:r>
            <a:br>
              <a:rPr sz="36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                                                  </a:t>
            </a:r>
            <a:r>
              <a:rPr b="1" lang="uk-UA" sz="2800" spc="-1" strike="noStrike">
                <a:solidFill>
                  <a:srgbClr val="e5e5ff"/>
                </a:solidFill>
                <a:latin typeface="Arial"/>
              </a:rPr>
              <a:t>тис. тонн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6" name="Object 9"/>
          <p:cNvGraphicFramePr/>
          <p:nvPr/>
        </p:nvGraphicFramePr>
        <p:xfrm>
          <a:off x="216000" y="1994040"/>
          <a:ext cx="871200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994040"/>
                    <a:ext cx="871200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35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uk-UA" sz="2600" spc="-1" strike="noStrike">
                <a:solidFill>
                  <a:srgbClr val="e5e5ff"/>
                </a:solidFill>
                <a:latin typeface="Arial Black"/>
              </a:rPr>
              <a:t> </a:t>
            </a: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Фактичні витрати на виробництво    сільськогосподарської продукції 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Arial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e5e5ff"/>
                </a:solidFill>
                <a:latin typeface="Arial"/>
              </a:rPr>
              <a:t>грн/г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989000"/>
          <a:ext cx="8785440" cy="4608720"/>
        </p:xfrm>
        <a:graphic>
          <a:graphicData uri="http://schemas.openxmlformats.org/drawingml/2006/table">
            <a:tbl>
              <a:tblPr/>
              <a:tblGrid>
                <a:gridCol w="2162160"/>
                <a:gridCol w="1366920"/>
                <a:gridCol w="1368360"/>
                <a:gridCol w="1366920"/>
                <a:gridCol w="2521080"/>
              </a:tblGrid>
              <a:tr h="21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07 рі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08 рі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09 рі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отреба витрат на гектар (по цінах 2009 р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Рослинниц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47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475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789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Тваринниц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17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25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55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35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uk-UA" sz="2600" spc="-1" strike="noStrike">
                <a:solidFill>
                  <a:srgbClr val="e5e5ff"/>
                </a:solidFill>
                <a:latin typeface="Arial Black"/>
              </a:rPr>
              <a:t> </a:t>
            </a: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Фактичні витрати на виробництво продукції рослинництва</a:t>
            </a:r>
            <a:r>
              <a:rPr b="1" lang="ru-RU" sz="3600" spc="-1" strike="noStrike">
                <a:solidFill>
                  <a:srgbClr val="e5e5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Arial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e5e5ff"/>
                </a:solidFill>
                <a:latin typeface="Arial"/>
              </a:rPr>
              <a:t>грн/г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19240" y="1841400"/>
          <a:ext cx="8680320" cy="477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841400"/>
                    <a:ext cx="868032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Прогнозована структура сільськогосподарських угідь на      2020 рік</a:t>
            </a:r>
            <a:r>
              <a:rPr b="0" lang="ru-RU" sz="3600" spc="-1" strike="noStrike">
                <a:solidFill>
                  <a:srgbClr val="e5e5ff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3" name="Объект 1"/>
          <p:cNvGraphicFramePr/>
          <p:nvPr/>
        </p:nvGraphicFramePr>
        <p:xfrm>
          <a:off x="250920" y="1484280"/>
          <a:ext cx="8713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713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19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35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uk-UA" sz="2600" spc="-1" strike="noStrike">
                <a:solidFill>
                  <a:srgbClr val="e5e5ff"/>
                </a:solidFill>
                <a:latin typeface="Arial Black"/>
              </a:rPr>
              <a:t> </a:t>
            </a: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Фактичні витрати на виробництво продукції тваринництва</a:t>
            </a:r>
            <a:r>
              <a:rPr b="1" lang="ru-RU" sz="3600" spc="-1" strike="noStrike">
                <a:solidFill>
                  <a:srgbClr val="e5e5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Arial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e5e5ff"/>
                </a:solidFill>
                <a:latin typeface="Arial"/>
              </a:rPr>
              <a:t>грн/г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231840" y="1816200"/>
          <a:ext cx="869148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816200"/>
                    <a:ext cx="86914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35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uk-UA" sz="2600" spc="-1" strike="noStrike">
                <a:solidFill>
                  <a:srgbClr val="e5e5ff"/>
                </a:solidFill>
                <a:latin typeface="Arial Black"/>
              </a:rPr>
              <a:t> </a:t>
            </a: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Дефіцити коштів на виробництво с/г продукції </a:t>
            </a:r>
            <a:br>
              <a:rPr sz="36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                                              </a:t>
            </a:r>
            <a:r>
              <a:rPr b="1" lang="uk-UA" sz="2800" spc="-1" strike="noStrike">
                <a:solidFill>
                  <a:srgbClr val="e5e5ff"/>
                </a:solidFill>
                <a:latin typeface="Arial"/>
              </a:rPr>
              <a:t>млн.грн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266760" y="1765440"/>
          <a:ext cx="863604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765440"/>
                    <a:ext cx="86360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Охорона і підвищення родючості ґрунтів</a:t>
            </a:r>
            <a:r>
              <a:rPr b="0" lang="ru-RU" sz="3600" spc="-1" strike="noStrike">
                <a:solidFill>
                  <a:srgbClr val="e5e5ff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1"/>
          <a:srcRect l="0" t="11897" r="0" b="11333"/>
          <a:stretch/>
        </p:blipFill>
        <p:spPr>
          <a:xfrm>
            <a:off x="250920" y="1341360"/>
            <a:ext cx="85708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Динаміка внесення міндобрив під основні с/г культури                          </a:t>
            </a:r>
            <a:r>
              <a:rPr b="1" lang="uk-UA" sz="2800" spc="-1" strike="noStrike">
                <a:solidFill>
                  <a:srgbClr val="e5e5ff"/>
                </a:solidFill>
                <a:latin typeface="Arial"/>
              </a:rPr>
              <a:t>( діючих речовин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2637000"/>
          <a:ext cx="8229600" cy="2301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1 рі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5 рі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20 рі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4,7 к/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6,4 к/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3.4 к/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Динаміка виробництва органічних добри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2637000"/>
          <a:ext cx="8218440" cy="25207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1 рі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5 рі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20 рі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</a:tr>
              <a:tr h="15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8 </a:t>
                      </a: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лн.т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7 </a:t>
                      </a: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лн.т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3 </a:t>
                      </a: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лн.т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0ea00"/>
                      </a:solidFill>
                    </a:lnL>
                    <a:lnR w="28080">
                      <a:solidFill>
                        <a:srgbClr val="f0ea00"/>
                      </a:solidFill>
                    </a:lnR>
                    <a:lnT w="28080">
                      <a:solidFill>
                        <a:srgbClr val="f0ea00"/>
                      </a:solidFill>
                    </a:lnT>
                    <a:lnB w="28080">
                      <a:solidFill>
                        <a:srgbClr val="f0ea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Рисунок 1" descr=""/>
          <p:cNvPicPr/>
          <p:nvPr/>
        </p:nvPicPr>
        <p:blipFill>
          <a:blip r:embed="rId1"/>
          <a:srcRect l="0" t="7136" r="0" b="87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433044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uk-UA" sz="3600" spc="-1" strike="noStrike">
                <a:solidFill>
                  <a:srgbClr val="e5e5ff"/>
                </a:solidFill>
                <a:latin typeface="Arial"/>
              </a:rPr>
              <a:t>Площа вирощування зернових культур</a:t>
            </a:r>
            <a:r>
              <a:rPr b="1" lang="ru-RU" sz="2200" spc="-1" strike="noStrike">
                <a:solidFill>
                  <a:srgbClr val="e5e5ff"/>
                </a:solidFill>
                <a:latin typeface="Arial Black"/>
              </a:rPr>
              <a:t> 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Object 9"/>
          <p:cNvGraphicFramePr/>
          <p:nvPr/>
        </p:nvGraphicFramePr>
        <p:xfrm>
          <a:off x="0" y="2060640"/>
          <a:ext cx="457056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45705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16000" y="189000"/>
            <a:ext cx="3816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Валовий збір зернових культур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8" name="Object 16"/>
          <p:cNvGraphicFramePr/>
          <p:nvPr/>
        </p:nvGraphicFramePr>
        <p:xfrm>
          <a:off x="4508640" y="2082960"/>
          <a:ext cx="4635360" cy="384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8640" y="2082960"/>
                    <a:ext cx="4635360" cy="38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64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Площа вирощування цукрових бурякі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27640" y="333360"/>
            <a:ext cx="4465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Валовий збір цукрових бурякі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2" name="Object 14"/>
          <p:cNvGraphicFramePr/>
          <p:nvPr/>
        </p:nvGraphicFramePr>
        <p:xfrm>
          <a:off x="0" y="2362320"/>
          <a:ext cx="4584600" cy="36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4584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5"/>
          <p:cNvGraphicFramePr/>
          <p:nvPr/>
        </p:nvGraphicFramePr>
        <p:xfrm>
          <a:off x="4495680" y="2374920"/>
          <a:ext cx="4622760" cy="3594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374920"/>
                    <a:ext cx="462276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64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Площа вирощування соняшни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7640" y="333360"/>
            <a:ext cx="4465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Валовий збір соняшни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88920" y="2336760"/>
          <a:ext cx="4470480" cy="36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2336760"/>
                    <a:ext cx="44704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7"/>
          <p:cNvGraphicFramePr/>
          <p:nvPr/>
        </p:nvGraphicFramePr>
        <p:xfrm>
          <a:off x="4584600" y="2349360"/>
          <a:ext cx="4457880" cy="372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4600" y="2349360"/>
                    <a:ext cx="4457880" cy="37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0:16:15Z</dcterms:created>
  <dc:creator>komp-info</dc:creator>
  <dc:description/>
  <dc:language>en-US</dc:language>
  <cp:lastModifiedBy>Roganova NA</cp:lastModifiedBy>
  <dcterms:modified xsi:type="dcterms:W3CDTF">2011-02-07T16:46:52Z</dcterms:modified>
  <cp:revision>266</cp:revision>
  <dc:subject/>
  <dc:title>Доповідь начальника Головного управління агропромислового  розвитку Харківської обласної державної адміністрації</dc:title>
</cp:coreProperties>
</file>