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1560" y="-36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15880" y="5047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720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1560" y="639720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2A2-696D-43C6-B7F1-18B970AB16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FE82-3D49-4A02-992F-EB43592492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D97-3C9A-42F7-B36B-236CED1F1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BF5D-42C4-43D8-8CAA-91BC42BC95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0F4-DB1A-42DD-8885-D67391D47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DBC1-443B-4C07-9C98-2222E83E09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13D-001D-4CA1-865F-D92F3773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B79-EA94-41BA-8741-740FDF5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4C4-5787-44E0-946E-77D4FD81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B92-F054-412F-B40F-13A4F014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4D9-D2F7-4578-B2C4-18642F88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FF6-C3CA-43F4-A00A-2B682343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067-F288-4510-977F-18636FAB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C18-638C-4160-BBC8-F2F951E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AB1-A62E-491B-AA5F-AD07367C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C3E-3922-4330-9516-93741D7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D79-5520-4670-9726-3600168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3DF-1F11-4F99-AAB3-E8F7D1A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3EA-C8B7-48ED-9F82-A6A39DD05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ЕКОНОМІЧНІ АСПЕКТИ РЕФОРМУВАННЯ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ГРАРНО-ПРОМИСЛОВОГО КОМПЛЕКСУ  УКРАЇ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4920" y="68400"/>
            <a:ext cx="90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ефіцит обігових коштів і капітальних вкладень  в  с/г  виробництво (без урахування харчової та переробної промисловості та інфраструктури аграрного ринк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250920" y="1413000"/>
            <a:ext cx="869472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І     Рослинництво – 57,5 млрд.гр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ІІ   Тваринництво – 43,2 млрд.гр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ІІІ  Основні засоби виробництва продукц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рослинництва 4000 грн./га – 108 млрд.гр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Times New Roman"/>
              </a:rPr>
              <a:t>І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uk-UA" sz="3000" spc="-1" strike="noStrike">
                <a:solidFill>
                  <a:srgbClr val="ffff00"/>
                </a:solidFill>
                <a:latin typeface="Times New Roman"/>
              </a:rPr>
              <a:t>  Основні засоби виробництва продукці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uk-UA" sz="3000" spc="-1" strike="noStrike">
                <a:solidFill>
                  <a:srgbClr val="ffff00"/>
                </a:solidFill>
                <a:latin typeface="Times New Roman"/>
              </a:rPr>
              <a:t>тваринництва – 140 млрд.гр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ТАКИМ ЧИНОМ АПК вимагає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- поповнення обігових коштів 100,7 млрд.грн у рі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- інвестиції в основні засоби  248  млрд.гр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66ff66"/>
                </a:solidFill>
                <a:latin typeface="Times New Roman"/>
              </a:rPr>
              <a:t>протягом 3-5 найближчих рок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6080" y="16992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Основні причини недофінансування АП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79280" y="1125360"/>
            <a:ext cx="8659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Відсутність стабільних правил гр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через полярні зміни програм державної. підтримки внаслідок частих змін уря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Непослідовна фінансово-кредитна та податкова полі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Зміни умов регулювання ри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2999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Надзвичайно висока кредитна ставка (до 30%) і відсутність ліквідної застави                 робить аграрний бізнес ризикованим для банк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-90360" y="907920"/>
            <a:ext cx="93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Головне завдання реформи в АПК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перетворити сільське господарство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інвестиційно привабливу галузь економі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і забезпечити залучення коштів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операційних витрат з метою дотрима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технологій і інвестицій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оновлення основних засоб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25440" y="2513160"/>
            <a:ext cx="1584360" cy="180000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емельна рефор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2484360" y="2514600"/>
            <a:ext cx="1582920" cy="180036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инок земл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4788000" y="2492280"/>
            <a:ext cx="1584360" cy="180036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емля – не тільки основний засіб виробництв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 і тов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948360" y="2514600"/>
            <a:ext cx="1800360" cy="180036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емля – високоліквідна застава для банкі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Прямая со стрелкой 6"/>
          <p:cNvCxnSpPr>
            <a:stCxn id="86" idx="3"/>
            <a:endCxn id="87" idx="1"/>
          </p:cNvCxnSpPr>
          <p:nvPr/>
        </p:nvCxnSpPr>
        <p:spPr>
          <a:xfrm>
            <a:off x="1909800" y="3413160"/>
            <a:ext cx="575280" cy="21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1" name="TextBox 9"/>
          <p:cNvSpPr/>
          <p:nvPr/>
        </p:nvSpPr>
        <p:spPr>
          <a:xfrm>
            <a:off x="179280" y="404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Забезпечення сільгосптоваровиробників високоліквідною заставою для кредиту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Прямая со стрелкой 21"/>
          <p:cNvCxnSpPr/>
          <p:nvPr/>
        </p:nvCxnSpPr>
        <p:spPr>
          <a:xfrm>
            <a:off x="6373800" y="3370320"/>
            <a:ext cx="575280" cy="21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Прямая со стрелкой 27"/>
          <p:cNvCxnSpPr>
            <a:endCxn id="88" idx="1"/>
          </p:cNvCxnSpPr>
          <p:nvPr/>
        </p:nvCxnSpPr>
        <p:spPr>
          <a:xfrm>
            <a:off x="4070160" y="3392280"/>
            <a:ext cx="7178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1763640" y="2060640"/>
            <a:ext cx="2879640" cy="115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ержавний земельний фонд (ДЗФ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як інструмент управління рухом землі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5219640" y="2060640"/>
            <a:ext cx="2881440" cy="11523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емельна іпотека і (або) застава довготермінового права оренди землі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3276720" y="3789360"/>
            <a:ext cx="2519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ержавний аграраний інвестеційний банк (ДАІБ) -100 млрд.грн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рі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971640" y="3789360"/>
            <a:ext cx="1584360" cy="107964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ільгосп-виробн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2771640" y="5516640"/>
            <a:ext cx="1656000" cy="86508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иватні інвестиційні фонд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5003640" y="5497560"/>
            <a:ext cx="1738440" cy="86364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вітові валютні організаці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6659640" y="3792600"/>
            <a:ext cx="2160360" cy="107640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Б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ефінансування протягом 3-5 років по 10-20 млрд.грн./рі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Прямая со стрелкой 38"/>
          <p:cNvCxnSpPr/>
          <p:nvPr/>
        </p:nvCxnSpPr>
        <p:spPr>
          <a:xfrm>
            <a:off x="4642920" y="2491920"/>
            <a:ext cx="575640" cy="39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3" name="Прямая со стрелкой 39"/>
          <p:cNvCxnSpPr/>
          <p:nvPr/>
        </p:nvCxnSpPr>
        <p:spPr>
          <a:xfrm flipH="1">
            <a:off x="4646160" y="2781360"/>
            <a:ext cx="573840" cy="21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4" name="Прямая со стрелкой 40"/>
          <p:cNvCxnSpPr/>
          <p:nvPr/>
        </p:nvCxnSpPr>
        <p:spPr>
          <a:xfrm>
            <a:off x="4066920" y="3213000"/>
            <a:ext cx="1080" cy="5803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5" name="Прямая со стрелкой 44"/>
          <p:cNvCxnSpPr/>
          <p:nvPr/>
        </p:nvCxnSpPr>
        <p:spPr>
          <a:xfrm flipV="1">
            <a:off x="3779640" y="3208320"/>
            <a:ext cx="1080" cy="5814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6" name="Прямая со стрелкой 45"/>
          <p:cNvCxnSpPr>
            <a:stCxn id="95" idx="2"/>
            <a:endCxn id="98" idx="0"/>
          </p:cNvCxnSpPr>
          <p:nvPr/>
        </p:nvCxnSpPr>
        <p:spPr>
          <a:xfrm flipH="1">
            <a:off x="1763640" y="3212640"/>
            <a:ext cx="1440360" cy="577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7" name="Прямая со стрелкой 48"/>
          <p:cNvCxnSpPr/>
          <p:nvPr/>
        </p:nvCxnSpPr>
        <p:spPr>
          <a:xfrm flipV="1">
            <a:off x="1495440" y="3212640"/>
            <a:ext cx="1348560" cy="5580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8" name="Прямая со стрелкой 51"/>
          <p:cNvCxnSpPr/>
          <p:nvPr/>
        </p:nvCxnSpPr>
        <p:spPr>
          <a:xfrm flipH="1">
            <a:off x="2555640" y="4235040"/>
            <a:ext cx="721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9" name="Прямая со стрелкой 54"/>
          <p:cNvCxnSpPr>
            <a:endCxn id="97" idx="0"/>
          </p:cNvCxnSpPr>
          <p:nvPr/>
        </p:nvCxnSpPr>
        <p:spPr>
          <a:xfrm flipH="1">
            <a:off x="4535280" y="3211200"/>
            <a:ext cx="1908720" cy="578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0" name="Прямая со стрелкой 56"/>
          <p:cNvCxnSpPr>
            <a:stCxn id="101" idx="1"/>
            <a:endCxn id="97" idx="3"/>
          </p:cNvCxnSpPr>
          <p:nvPr/>
        </p:nvCxnSpPr>
        <p:spPr>
          <a:xfrm flipH="1">
            <a:off x="5795280" y="4330800"/>
            <a:ext cx="864360" cy="702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1" name="Прямая со стрелкой 59"/>
          <p:cNvCxnSpPr/>
          <p:nvPr/>
        </p:nvCxnSpPr>
        <p:spPr>
          <a:xfrm flipV="1">
            <a:off x="3779640" y="5013000"/>
            <a:ext cx="1080" cy="5040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2" name="Прямая со стрелкой 61"/>
          <p:cNvCxnSpPr/>
          <p:nvPr/>
        </p:nvCxnSpPr>
        <p:spPr>
          <a:xfrm flipH="1" flipV="1">
            <a:off x="5573160" y="5012640"/>
            <a:ext cx="6840" cy="484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>
            <a:endCxn id="97" idx="1"/>
          </p:cNvCxnSpPr>
          <p:nvPr/>
        </p:nvCxnSpPr>
        <p:spPr>
          <a:xfrm>
            <a:off x="2556000" y="4400280"/>
            <a:ext cx="721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14" name="TextBox 33"/>
          <p:cNvSpPr/>
          <p:nvPr/>
        </p:nvSpPr>
        <p:spPr>
          <a:xfrm>
            <a:off x="34920" y="61920"/>
            <a:ext cx="91090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ерехід від схеми кредитування с.г. виробників під високу ставку з частковою компенсацію на кредитування з прийнятною ставкою через створення спеціалізованого державного інвеститційногоаграрного бан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1935000" y="1413000"/>
            <a:ext cx="2880000" cy="115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ержавний земельний фонд (ДЗФ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як інструмент управління рухом землі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5391000" y="1413000"/>
            <a:ext cx="2881440" cy="11523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емельна іпотека і (або) застава довготермінового права оренди землі – основи кредитуванн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4402080" y="3132000"/>
            <a:ext cx="2519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ержавний аграраний інвестиційнй банк (ДАІБ) -100 млрд.грн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рі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1143000" y="3141720"/>
            <a:ext cx="1584360" cy="107928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ільгосп-виробн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2556000" y="4869000"/>
            <a:ext cx="2043000" cy="93636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ахові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мпані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Прямая со стрелкой 38"/>
          <p:cNvCxnSpPr/>
          <p:nvPr/>
        </p:nvCxnSpPr>
        <p:spPr>
          <a:xfrm>
            <a:off x="4815000" y="1844280"/>
            <a:ext cx="57528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2" name="Прямая со стрелкой 39"/>
          <p:cNvCxnSpPr/>
          <p:nvPr/>
        </p:nvCxnSpPr>
        <p:spPr>
          <a:xfrm flipH="1">
            <a:off x="4817520" y="2133720"/>
            <a:ext cx="573480" cy="21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3" name="Прямая со стрелкой 40"/>
          <p:cNvCxnSpPr/>
          <p:nvPr/>
        </p:nvCxnSpPr>
        <p:spPr>
          <a:xfrm>
            <a:off x="4240080" y="2565360"/>
            <a:ext cx="1269360" cy="5803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4" name="Прямая со стрелкой 44"/>
          <p:cNvCxnSpPr/>
          <p:nvPr/>
        </p:nvCxnSpPr>
        <p:spPr>
          <a:xfrm flipH="1" flipV="1">
            <a:off x="3950640" y="2559960"/>
            <a:ext cx="1269000" cy="5850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5" name="Прямая со стрелкой 45"/>
          <p:cNvCxnSpPr>
            <a:stCxn id="116" idx="2"/>
            <a:endCxn id="119" idx="0"/>
          </p:cNvCxnSpPr>
          <p:nvPr/>
        </p:nvCxnSpPr>
        <p:spPr>
          <a:xfrm flipH="1">
            <a:off x="1935000" y="2565000"/>
            <a:ext cx="1440360" cy="577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6" name="Прямая со стрелкой 48"/>
          <p:cNvCxnSpPr/>
          <p:nvPr/>
        </p:nvCxnSpPr>
        <p:spPr>
          <a:xfrm flipV="1">
            <a:off x="1666800" y="2565000"/>
            <a:ext cx="1348560" cy="5580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7" name="Прямая со стрелкой 51"/>
          <p:cNvCxnSpPr/>
          <p:nvPr/>
        </p:nvCxnSpPr>
        <p:spPr>
          <a:xfrm flipH="1">
            <a:off x="2727000" y="3587400"/>
            <a:ext cx="1675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8" name="Прямая со стрелкой 54"/>
          <p:cNvCxnSpPr>
            <a:endCxn id="118" idx="0"/>
          </p:cNvCxnSpPr>
          <p:nvPr/>
        </p:nvCxnSpPr>
        <p:spPr>
          <a:xfrm flipH="1">
            <a:off x="5660280" y="2553840"/>
            <a:ext cx="1909080" cy="578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9" name="Прямая со стрелкой 59"/>
          <p:cNvCxnSpPr/>
          <p:nvPr/>
        </p:nvCxnSpPr>
        <p:spPr>
          <a:xfrm flipV="1">
            <a:off x="3596760" y="3744720"/>
            <a:ext cx="1080" cy="112464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0" name="Прямая со стрелкой 49"/>
          <p:cNvCxnSpPr>
            <a:endCxn id="118" idx="1"/>
          </p:cNvCxnSpPr>
          <p:nvPr/>
        </p:nvCxnSpPr>
        <p:spPr>
          <a:xfrm>
            <a:off x="2727360" y="3744720"/>
            <a:ext cx="1675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1" name="TextBox 52"/>
          <p:cNvSpPr/>
          <p:nvPr/>
        </p:nvSpPr>
        <p:spPr>
          <a:xfrm>
            <a:off x="531000" y="115920"/>
            <a:ext cx="84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Times New Roman"/>
              </a:rPr>
              <a:t>Схема кредитування сільгосптоваровиробникі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Прямая со стрелкой 36"/>
          <p:cNvCxnSpPr>
            <a:stCxn id="120" idx="0"/>
            <a:endCxn id="119" idx="2"/>
          </p:cNvCxnSpPr>
          <p:nvPr/>
        </p:nvCxnSpPr>
        <p:spPr>
          <a:xfrm flipH="1" flipV="1">
            <a:off x="1934280" y="4221000"/>
            <a:ext cx="1644120" cy="6483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4920" y="61920"/>
            <a:ext cx="885816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Непослідовність державної підтримки за останні роки пояснюється залежністю фінансування державних прог-рам від формування Державного бюджету на поточний рік (воля депутатського корпусу). Для вирішення цієї проблеми пропонує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51000" y="1989000"/>
            <a:ext cx="8397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ВВЕДЕННЯ ТИМЧАСОВОГО (НА 5 РОКІВ) ЗБОРУ ДЛЯ СТВОРЕННЯ ФОНДУ РОЗВИТКУ УКРАЇНСЬКОГО СЕЛА </a:t>
            </a: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(ФРУС) </a:t>
            </a: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В ОБСЯЗІ </a:t>
            </a: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1% </a:t>
            </a: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З ПРОДАЖУ ТОВАРІВ, НАДАННЯ ПОСЛУГ І ВИКОНАННЯ РОБІТ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Фінансування програм розвитку державної підтримки АПК протягом 5 років буде здійснюватися за рахунок ФРУ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трелка вправо 91"/>
          <p:cNvSpPr/>
          <p:nvPr/>
        </p:nvSpPr>
        <p:spPr>
          <a:xfrm rot="802200">
            <a:off x="2696760" y="1491840"/>
            <a:ext cx="3227400" cy="289080"/>
          </a:xfrm>
          <a:prstGeom prst="rightArrow">
            <a:avLst>
              <a:gd name="adj1" fmla="val 73731"/>
              <a:gd name="adj2" fmla="val 49981"/>
            </a:avLst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трелка вправо 90"/>
          <p:cNvSpPr/>
          <p:nvPr/>
        </p:nvSpPr>
        <p:spPr>
          <a:xfrm rot="938400">
            <a:off x="2688840" y="2886120"/>
            <a:ext cx="3909960" cy="288720"/>
          </a:xfrm>
          <a:prstGeom prst="rightArrow">
            <a:avLst>
              <a:gd name="adj1" fmla="val 73731"/>
              <a:gd name="adj2" fmla="val 50032"/>
            </a:avLst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трелка вправо 89"/>
          <p:cNvSpPr/>
          <p:nvPr/>
        </p:nvSpPr>
        <p:spPr>
          <a:xfrm rot="4300200">
            <a:off x="1674360" y="3865320"/>
            <a:ext cx="2412720" cy="289080"/>
          </a:xfrm>
          <a:prstGeom prst="rightArrow">
            <a:avLst>
              <a:gd name="adj1" fmla="val 73731"/>
              <a:gd name="adj2" fmla="val 49961"/>
            </a:avLst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250920" y="684360"/>
            <a:ext cx="2592360" cy="22399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Держпідтри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грами підтримки пріоритеті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даткові пільг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итно-тарифна політик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і закупівлі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 підтримка  страхування  аграрного виробниц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3710160" y="2060640"/>
            <a:ext cx="1584000" cy="809640"/>
          </a:xfrm>
          <a:prstGeom prst="rect">
            <a:avLst/>
          </a:prstGeom>
          <a:solidFill>
            <a:srgbClr val="ff00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АЛАН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5867280" y="1557360"/>
            <a:ext cx="1944720" cy="100800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робна і харчова промислові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3340080" y="3508200"/>
            <a:ext cx="2519280" cy="8636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ПОЗИЦІ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755640" y="3454560"/>
            <a:ext cx="1584360" cy="97128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ільгосп-виробн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3122640" y="5143680"/>
            <a:ext cx="1657440" cy="53316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рейд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6516720" y="3046320"/>
            <a:ext cx="2016000" cy="107640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довольча безп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52"/>
          <p:cNvSpPr/>
          <p:nvPr/>
        </p:nvSpPr>
        <p:spPr>
          <a:xfrm>
            <a:off x="1618200" y="0"/>
            <a:ext cx="576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Times New Roman"/>
              </a:rPr>
              <a:t>Схема державного регулюванн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33"/>
          <p:cNvSpPr/>
          <p:nvPr/>
        </p:nvSpPr>
        <p:spPr>
          <a:xfrm>
            <a:off x="5651640" y="4662360"/>
            <a:ext cx="2016000" cy="107640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харчове використ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37"/>
          <p:cNvSpPr/>
          <p:nvPr/>
        </p:nvSpPr>
        <p:spPr>
          <a:xfrm>
            <a:off x="3564000" y="1125360"/>
            <a:ext cx="1871640" cy="65736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41"/>
          <p:cNvSpPr/>
          <p:nvPr/>
        </p:nvSpPr>
        <p:spPr>
          <a:xfrm>
            <a:off x="3122640" y="6093000"/>
            <a:ext cx="1657440" cy="5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ЕКСПОР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Прямая со стрелкой 20"/>
          <p:cNvCxnSpPr>
            <a:stCxn id="144" idx="3"/>
            <a:endCxn id="143" idx="1"/>
          </p:cNvCxnSpPr>
          <p:nvPr/>
        </p:nvCxnSpPr>
        <p:spPr>
          <a:xfrm>
            <a:off x="2340000" y="3939840"/>
            <a:ext cx="100080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2" name="Прямая со стрелкой 50"/>
          <p:cNvCxnSpPr>
            <a:stCxn id="143" idx="3"/>
            <a:endCxn id="146" idx="1"/>
          </p:cNvCxnSpPr>
          <p:nvPr/>
        </p:nvCxnSpPr>
        <p:spPr>
          <a:xfrm flipV="1">
            <a:off x="5859360" y="3584160"/>
            <a:ext cx="658080" cy="3564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3" name="Прямая со стрелкой 53"/>
          <p:cNvCxnSpPr>
            <a:stCxn id="143" idx="0"/>
            <a:endCxn id="142" idx="2"/>
          </p:cNvCxnSpPr>
          <p:nvPr/>
        </p:nvCxnSpPr>
        <p:spPr>
          <a:xfrm flipV="1">
            <a:off x="4599000" y="2564640"/>
            <a:ext cx="2242080" cy="9435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4" name="Прямая со стрелкой 55"/>
          <p:cNvCxnSpPr>
            <a:stCxn id="143" idx="2"/>
            <a:endCxn id="148" idx="1"/>
          </p:cNvCxnSpPr>
          <p:nvPr/>
        </p:nvCxnSpPr>
        <p:spPr>
          <a:xfrm>
            <a:off x="4599000" y="4371840"/>
            <a:ext cx="1053360" cy="82944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5" name="Прямая со стрелкой 62"/>
          <p:cNvCxnSpPr>
            <a:endCxn id="145" idx="0"/>
          </p:cNvCxnSpPr>
          <p:nvPr/>
        </p:nvCxnSpPr>
        <p:spPr>
          <a:xfrm>
            <a:off x="3951000" y="4371840"/>
            <a:ext cx="1080" cy="7725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6" name="Прямая со стрелкой 64"/>
          <p:cNvCxnSpPr>
            <a:stCxn id="145" idx="2"/>
            <a:endCxn id="150" idx="0"/>
          </p:cNvCxnSpPr>
          <p:nvPr/>
        </p:nvCxnSpPr>
        <p:spPr>
          <a:xfrm>
            <a:off x="3951000" y="5676840"/>
            <a:ext cx="1080" cy="4168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7" name="Прямая со стрелкой 67"/>
          <p:cNvCxnSpPr>
            <a:endCxn id="141" idx="2"/>
          </p:cNvCxnSpPr>
          <p:nvPr/>
        </p:nvCxnSpPr>
        <p:spPr>
          <a:xfrm flipV="1">
            <a:off x="4500720" y="2870280"/>
            <a:ext cx="2160" cy="6382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8" name="Прямая со стрелкой 71"/>
          <p:cNvCxnSpPr>
            <a:stCxn id="141" idx="0"/>
            <a:endCxn id="149" idx="2"/>
          </p:cNvCxnSpPr>
          <p:nvPr/>
        </p:nvCxnSpPr>
        <p:spPr>
          <a:xfrm flipH="1" flipV="1">
            <a:off x="4500360" y="1782720"/>
            <a:ext cx="2160" cy="2782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9" name="Прямая со стрелкой 74"/>
          <p:cNvCxnSpPr>
            <a:stCxn id="149" idx="1"/>
          </p:cNvCxnSpPr>
          <p:nvPr/>
        </p:nvCxnSpPr>
        <p:spPr>
          <a:xfrm flipH="1">
            <a:off x="2839320" y="1453680"/>
            <a:ext cx="72468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60" name="Стрелка вправо 87"/>
          <p:cNvSpPr/>
          <p:nvPr/>
        </p:nvSpPr>
        <p:spPr>
          <a:xfrm rot="5400000">
            <a:off x="1260000" y="3075120"/>
            <a:ext cx="530280" cy="228600"/>
          </a:xfrm>
          <a:prstGeom prst="rightArrow">
            <a:avLst>
              <a:gd name="adj1" fmla="val 73731"/>
              <a:gd name="adj2" fmla="val 50002"/>
            </a:avLst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345960" y="836640"/>
            <a:ext cx="840132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БАЛАН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Обов'язкові середньотермінові (на 3-5 років) 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щорічні баланси основних видів сільськогоспода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ської продукції дозволя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забезпечити продовольчу безпеку з урахуванн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купівельної спроможності населе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оптимізувати експорт/імпорт сільськогоспода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ської продукції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розробити плани розвитку переробної і харчов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промисловості та біоенерге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08000" y="-69840"/>
            <a:ext cx="9036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ЦІНОУТВОРЕНН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ержавне регулювання цін на с.г. продукцію 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обов'язковою складовою аграної полі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Існує три шляхи ліквідація диспаритету цін за рахуно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дотації з Держбюджету –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еможливо для сучасного стану економіки (потрібно 40-50 млрд.грн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законодавчого регулювання (закон про максимальні і мінімальні ціни) - досвід США –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«справедливий перерозподіл доходу у ланцюгу виробник-перероб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іжгалузевих і міжпрофесійних угод про ціни між виробниками, переробниками і торгівлею (щорічно) - досвід Європ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ля України найбільш сприятливим є законодаче регулю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5" descr=""/>
          <p:cNvPicPr/>
          <p:nvPr/>
        </p:nvPicPr>
        <p:blipFill>
          <a:blip r:embed="rId1"/>
          <a:stretch/>
        </p:blipFill>
        <p:spPr>
          <a:xfrm>
            <a:off x="50760" y="1247760"/>
            <a:ext cx="8934480" cy="5299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34920" y="115920"/>
            <a:ext cx="892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Реалізація потенційної урожайності сільськогосподарських культу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(на прикладі озимої пшениці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690120" y="1268280"/>
            <a:ext cx="741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ФОРМИ ГОСПОДАРЮ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аграрні холдинги (десятки або сотні тис. г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крупнотоварне виробництво (3-10 тис. г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середньотоварне виробництво (до 3 тис.г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фермерські господарства (сотні г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селянські подвір'я (до 2 г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539000" y="765000"/>
            <a:ext cx="58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ЕВОЛЮЦІЙНІ  ПЕРЕТВОР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ФОРМ ГОСПОДАРЮ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5867280" y="22226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5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бажана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38080" y="2133720"/>
            <a:ext cx="10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фа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Стрелка вправо 2"/>
          <p:cNvSpPr/>
          <p:nvPr/>
        </p:nvSpPr>
        <p:spPr>
          <a:xfrm>
            <a:off x="2195640" y="2367000"/>
            <a:ext cx="3671640" cy="596880"/>
          </a:xfrm>
          <a:prstGeom prst="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66ccff"/>
              </a:gs>
              <a:gs pos="100000">
                <a:srgbClr val="ffc000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142920" y="3645000"/>
            <a:ext cx="2628720" cy="131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значе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ажаної структури і шляхів реформув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17"/>
          <p:cNvSpPr/>
          <p:nvPr/>
        </p:nvSpPr>
        <p:spPr>
          <a:xfrm>
            <a:off x="3059280" y="3505320"/>
            <a:ext cx="2808000" cy="16185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провадження системи заходів, що будуть сприяти отриманню бажаної структу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18"/>
          <p:cNvSpPr/>
          <p:nvPr/>
        </p:nvSpPr>
        <p:spPr>
          <a:xfrm>
            <a:off x="6084720" y="3149640"/>
            <a:ext cx="2808360" cy="22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ажана структура виробництва окремих галуз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олока, свинини, яловичини, овочів, картоплі, плодів,  винограду тощ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08000" y="260280"/>
            <a:ext cx="903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РЕФОРМА, що пропонується потребує прийняття політичних рішень по найбільш радикальним пропозиці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инок земл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творення спеціалізованого банку і зміни умов кредитува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творення ФРУ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егулювання ціноутвор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Враховуючи неоднозначність сприйняття заходів, що пропонуються певною частиною законодавчої та виконавчої влади системне введення реформи в дію можливо виключно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Указами Президента Украї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55640" y="404640"/>
            <a:ext cx="7993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Виконання запропонованої реформи дозволять через 5 років вдвічі збільшити виробництво продукції агропродовольчого комплексу та у 2015 році отримат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80 млн.т зер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15 млн.т насіння олійних культу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4 млн.т м'яс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18 млн.т мол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20 млрд.шт. яєц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9280" y="115920"/>
            <a:ext cx="896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Реформа потребує висунення умов і до с.г. товаровиробника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Їх пропонується реліазувати через законодавче запровадження аграрного паспорту кожного с.г. район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609480" y="2708280"/>
            <a:ext cx="82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Аграрний паспорт району забезпечи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збереження родючості ґрунт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отримання сівозмі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труктуру виробниц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озвиток тваринниц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24000" y="522612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Доступ с/г виробників до податкових і митних пільг та державних цільових програм тільки за умови дотримання цих вим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52280" y="142920"/>
            <a:ext cx="8640720" cy="62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План дій по впровадженню реформ на фоні діючих програм і Держбюджету на 2011 рік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541440" y="98100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1 рік – законодавче і нормативно-право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безпечення рефор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453960" y="1963800"/>
            <a:ext cx="78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. Законодавче забезпечення земельної рефор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Ринок земл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Державний земельний кадас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Державний земельний фонд (ДЗ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541440" y="4076640"/>
            <a:ext cx="78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І. Державний аграрний інвестиційний банк на базі одного з націоналізованих банк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96880" y="5013360"/>
            <a:ext cx="78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ІІ. 1% збір для фонду розвитку українського села (ФРУ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541440" y="98100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1 рік – законодавче і нормативно-право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безпечення рефор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755640" y="18446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. Створення інфраструктури ДЗФ і ДАІ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723960" y="2421000"/>
            <a:ext cx="78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. Розробка галузевих програм, що будуть  підтримуватись за рахунок ФРУС (5 ро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Розробка регіональних програм, що є складовими загальнонаціональних прог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62120" y="4010040"/>
            <a:ext cx="786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. Розробка економіко-організаційних заходів реформування А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Агарний р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Баланси спожи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Ціноутворе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Форми господарю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Агарні паспорти с.г. район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52280" y="142920"/>
            <a:ext cx="8640720" cy="62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План дій по впровадженню реформ на фоні діючих програм і Держбюджету на 2011 рік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530280" y="123048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1 рік – законодавче і нормативно-право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безпечення рефор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541440" y="2454120"/>
            <a:ext cx="78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І. Часткове запровадження заходів:  ДЗФ, ДАІБ, ФРУ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392040"/>
            <a:ext cx="864072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План дій по впровадженню реформ на фоні діючих програм і Держбюджету на 2011 рік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539640" y="35164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ІІ. Переоснащення основних засобів виробництва через систему лізингу до 100 млрд.грн. на рік на 3-5 рокі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Створення нових чи посилення роботи діючих лізингових компані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60480" y="404640"/>
            <a:ext cx="8918280" cy="550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2012 рік – запровадження системної реформ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41440" y="220500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. Початок роботи ДЗФ і ДА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аралельне існування двох прогр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снуючого кредитування через комерційні ба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Нового кредитування через Д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4356000" y="4216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5580000" y="4216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6732720" y="4216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7740720" y="4216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352440" y="486900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КБ, </a:t>
            </a:r>
            <a:r>
              <a:rPr b="1" lang="uk-UA" sz="2400" spc="-1" strike="noStrike">
                <a:solidFill>
                  <a:srgbClr val="ffc000"/>
                </a:solidFill>
                <a:latin typeface="Times New Roman"/>
              </a:rPr>
              <a:t>млрд.гр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223920" y="5661000"/>
            <a:ext cx="24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66"/>
                </a:solidFill>
                <a:latin typeface="Arial"/>
              </a:rPr>
              <a:t>ДАБ, </a:t>
            </a:r>
            <a:r>
              <a:rPr b="1" lang="uk-UA" sz="2400" spc="-1" strike="noStrike">
                <a:solidFill>
                  <a:srgbClr val="66ff66"/>
                </a:solidFill>
                <a:latin typeface="Times New Roman"/>
              </a:rPr>
              <a:t>млрд.гр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3276720" y="4216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3330720" y="485784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4503600" y="4873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5737320" y="487368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4502160" y="566100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5692680" y="566100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6870600" y="5661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66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7878600" y="5661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66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701028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7834320" y="487368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21"/>
          <p:cNvSpPr/>
          <p:nvPr/>
        </p:nvSpPr>
        <p:spPr>
          <a:xfrm>
            <a:off x="3414600" y="56307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541440" y="2205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І. Розгортання роботи лізінгових компаній (державних чи приватних), обсяг млрд.гр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310824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497196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6443640" y="35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765648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102384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162080" y="4211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3246480" y="421164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18"/>
          <p:cNvSpPr/>
          <p:nvPr/>
        </p:nvSpPr>
        <p:spPr>
          <a:xfrm>
            <a:off x="5111640" y="422928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19"/>
          <p:cNvSpPr/>
          <p:nvPr/>
        </p:nvSpPr>
        <p:spPr>
          <a:xfrm>
            <a:off x="7794720" y="422928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6583320" y="421164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1"/>
          <p:cNvSpPr/>
          <p:nvPr/>
        </p:nvSpPr>
        <p:spPr>
          <a:xfrm>
            <a:off x="654120" y="4869000"/>
            <a:ext cx="16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000"/>
                </a:solidFill>
                <a:latin typeface="Arial"/>
              </a:rPr>
              <a:t>Держав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000"/>
                </a:solidFill>
                <a:latin typeface="Arial"/>
              </a:rPr>
              <a:t>гарант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2916360" y="4883040"/>
            <a:ext cx="55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000"/>
                </a:solidFill>
                <a:latin typeface="Arial"/>
              </a:rPr>
              <a:t>Державні гарант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Приватні інвестиційні фон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60480" y="404640"/>
            <a:ext cx="8918280" cy="550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2012 рік – запровадження системної реформ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25"/>
          <p:cNvSpPr/>
          <p:nvPr/>
        </p:nvSpPr>
        <p:spPr>
          <a:xfrm>
            <a:off x="1547640" y="1916280"/>
            <a:ext cx="5904000" cy="720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сення мінеральних добрив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ід сільськогосподарські культури України, кг/га д.р</a:t>
            </a: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. та частка удобреної площі, %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ject 22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17848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27"/>
          <p:cNvSpPr/>
          <p:nvPr/>
        </p:nvSpPr>
        <p:spPr>
          <a:xfrm>
            <a:off x="2480400" y="19242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ізіологічна потреба для реаліза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енетичного потенціа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2"/>
          <p:cNvSpPr/>
          <p:nvPr/>
        </p:nvSpPr>
        <p:spPr>
          <a:xfrm>
            <a:off x="1455840" y="63277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41440" y="220500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ІІ. Галузеві прог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2011 р. – розробка, корегування існуючих, початок виконання нов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2012 р. – системне виконання галузевих програм по виробництву зерна, олії, м'яса, молока, яєць тощ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2015 р. – вихід на планові (прогнозні) показ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60480" y="404640"/>
            <a:ext cx="8918280" cy="550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2012 рік – запровадження системної реформ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547640" y="2276640"/>
            <a:ext cx="604872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сення </a:t>
            </a: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органічних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добрив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ід сільськогосподарські культури України, </a:t>
            </a: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га </a:t>
            </a: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та частка удобреної площі, %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450720" y="1319040"/>
            <a:ext cx="8197920" cy="5340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6360" y="2276640"/>
            <a:ext cx="6408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зіологічна потреба для реалізації генетичного потенціал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 збереження родючості ґрун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49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Забезпеченість засобами захисту                                  посівів озимої пшени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ject 7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664840" cy="518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1547640" y="356544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</a:rPr>
              <a:t>15,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700360" y="3357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</a:rPr>
              <a:t>25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851280" y="3141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</a:rPr>
              <a:t>32,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6156360" y="2708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</a:rPr>
              <a:t>49,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332000" y="1989000"/>
            <a:ext cx="7343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Технологічна потреб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2360" y="2814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</a:rPr>
              <a:t>41,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7246800" y="30607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</a:rPr>
              <a:t>33,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Деякі показники виробництва</a:t>
            </a:r>
            <a:br>
              <a:rPr sz="2400"/>
            </a:b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озимої пшениці у 2006-2010 роках за умов</a:t>
            </a:r>
            <a:br>
              <a:rPr sz="2400"/>
            </a:b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овного виконання технологічних ви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5920" y="1844640"/>
          <a:ext cx="8229600" cy="2822760"/>
        </p:xfrm>
        <a:graphic>
          <a:graphicData uri="http://schemas.openxmlformats.org/drawingml/2006/table">
            <a:tbl>
              <a:tblPr/>
              <a:tblGrid>
                <a:gridCol w="4690800"/>
                <a:gridCol w="353880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рожайні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,6 - 90,1 </a:t>
                      </a: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/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гальні витра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100 </a:t>
                      </a: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н./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Які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- 3 кла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біварті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4 </a:t>
                      </a: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н./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27"/>
          <p:cNvSpPr/>
          <p:nvPr/>
        </p:nvSpPr>
        <p:spPr>
          <a:xfrm>
            <a:off x="369720" y="5229360"/>
            <a:ext cx="835344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Витрати  на вирощування озимої пшениці у 2010 роц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не перевищують 3000 грн./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1268280"/>
          <a:ext cx="7632720" cy="4969080"/>
        </p:xfrm>
        <a:graphic>
          <a:graphicData uri="http://schemas.openxmlformats.org/drawingml/2006/table">
            <a:tbl>
              <a:tblPr/>
              <a:tblGrid>
                <a:gridCol w="2323800"/>
                <a:gridCol w="1300320"/>
                <a:gridCol w="1271520"/>
                <a:gridCol w="1400400"/>
                <a:gridCol w="1336680"/>
              </a:tblGrid>
              <a:tr h="7383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іологіч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464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рожайні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/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9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6,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,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464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ількість зерна, млн.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3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1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09"/>
          <p:cNvSpPr/>
          <p:nvPr/>
        </p:nvSpPr>
        <p:spPr>
          <a:xfrm>
            <a:off x="431640" y="189000"/>
            <a:ext cx="864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Валовий збір і біологічний урожай зернов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у 2008 - 2010 р.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-28440" y="-34920"/>
            <a:ext cx="91724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Реалізація генетичного потенціалу продуктивності сільськогосподарських  тварин і птиц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37960" y="1628640"/>
          <a:ext cx="8641080" cy="4454640"/>
        </p:xfrm>
        <a:graphic>
          <a:graphicData uri="http://schemas.openxmlformats.org/drawingml/2006/table">
            <a:tbl>
              <a:tblPr/>
              <a:tblGrid>
                <a:gridCol w="3384720"/>
                <a:gridCol w="1728720"/>
                <a:gridCol w="1368360"/>
                <a:gridCol w="215928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каз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енетичний потенці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а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алізація потенціалу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248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рости живої маси на вирощуванні і відгодівлі,  г на добу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Бройл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ви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Р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адій молока на корову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7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астриг вовни з вівц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1916280"/>
          <a:ext cx="8406000" cy="3768480"/>
        </p:xfrm>
        <a:graphic>
          <a:graphicData uri="http://schemas.openxmlformats.org/drawingml/2006/table">
            <a:tbl>
              <a:tblPr/>
              <a:tblGrid>
                <a:gridCol w="2212920"/>
                <a:gridCol w="1548000"/>
                <a:gridCol w="1403280"/>
                <a:gridCol w="1368360"/>
                <a:gridCol w="18734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треба у цінах 2009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ослинниц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варинниц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2"/>
          <p:cNvSpPr/>
          <p:nvPr/>
        </p:nvSpPr>
        <p:spPr>
          <a:xfrm>
            <a:off x="198360" y="1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"/>
              </a:rPr>
              <a:t>Реальні витрати на виробництво сільськогосподарської продукції, грн./г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3:08:26Z</dcterms:created>
  <dc:creator>Медведовский</dc:creator>
  <dc:description/>
  <dc:language>en-US</dc:language>
  <cp:lastModifiedBy>Roganova NA</cp:lastModifiedBy>
  <cp:lastPrinted>2010-07-27T15:56:01Z</cp:lastPrinted>
  <dcterms:modified xsi:type="dcterms:W3CDTF">2011-02-07T16:51:09Z</dcterms:modified>
  <cp:revision>187</cp:revision>
  <dc:subject/>
  <dc:title>Слайд 1</dc:title>
</cp:coreProperties>
</file>