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2B63-C3CD-4E64-83EB-4BA4DE7D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214E-215C-4037-A45F-2A2D93EE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02EB-3712-46C5-AA51-59E94264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BBC4-78D6-494C-83F7-02060C54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7E6-5958-432F-9FBE-ED50CDBB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A5D-258D-44BE-AD6E-C3CAA39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BFA-9FD5-42D1-8840-B8BA98CC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8D32-FE5E-4AF8-BD18-8926A05D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548E-82DF-4A52-8BB8-0CD0EEA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2DCD-9A27-4AEE-A2D6-F06C149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DDDF-A2BE-40EC-895F-B269D597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3BDA-02A8-4F0A-872E-94015F7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1AF4-D932-46FF-B4E2-8656F04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0374-0A91-4893-96ED-DA5A99C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00DF-C69E-433D-A8E8-E57DB9F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EE8-8D8F-48DF-824B-35910F2C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72FD-8173-438C-B731-26395FF6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3A74-CFE9-4C0E-94AA-E5994B2C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02BE-37B9-403E-A82F-0AD776F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7471-0C7E-4204-95BD-E45F0A35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8454-F7EE-4763-B061-74CEFBF4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5118-0872-42F9-93DB-3F9CD59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539D-B5A5-4070-A944-5BD73E1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A50C-CD33-4767-8429-958D7A0A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C55B-184E-4307-8038-ECAD7BFE22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3554-BB85-4980-B86F-0216EE3094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Середньорічні обсяги виробництва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валової продукції тваринництва по всіх категоріях господарств області за 2000-2004 і 2005-2009 роки, млн. грн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828800"/>
          <a:ext cx="862164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62164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Індекси валової продукції тваринництва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у Харківській області за січень-березень 2011 року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371600"/>
          <a:ext cx="8686800" cy="5257440"/>
        </p:xfrm>
        <a:graphic>
          <a:graphicData uri="http://schemas.openxmlformats.org/drawingml/2006/table">
            <a:tbl>
              <a:tblPr/>
              <a:tblGrid>
                <a:gridCol w="3657600"/>
                <a:gridCol w="2438280"/>
                <a:gridCol w="2590920"/>
              </a:tblGrid>
              <a:tr h="13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Січень-березень                    2011 р. до січня-березня 2010 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Довідкова</a:t>
                      </a:r>
                      <a:r>
                        <a:rPr b="1" lang="en-US" sz="20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uk-UA" sz="20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: січень-березень 2010 р. до січня-березня 2009 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Всього по област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11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105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у тому числі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сільськогосподарські      підприєм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11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111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господарства насе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110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ee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Інвестиційні проекти у тваринництві, 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реалізація яких відновлена у 2010-2011 роках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609480"/>
          <a:ext cx="8839440" cy="5964480"/>
        </p:xfrm>
        <a:graphic>
          <a:graphicData uri="http://schemas.openxmlformats.org/drawingml/2006/table">
            <a:tbl>
              <a:tblPr/>
              <a:tblGrid>
                <a:gridCol w="4648320"/>
                <a:gridCol w="1168560"/>
                <a:gridCol w="1284120"/>
                <a:gridCol w="1738440"/>
              </a:tblGrid>
              <a:tr h="49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Найменування об'єкту та його місцезнаходж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Будівельна готовність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Кошторисна вартість,                    тис. гр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Обсяги фінансування                    на 2011 рік,                       тис. гр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Дворічанський район, ПСП "Родіна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Будівництво приміщення для вирощування молодняку ВРХ на 600 голів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2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Дворічанський район, ПСП "Родіна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Будівництво сучасного доїльного залу на 500 корів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6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3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Золочівський район, ТОВ "Довжик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Будівництво сучасного доїльного залу на 500 кор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2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1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Красноградський район, ТОВ АФ "Пісчанська" </a:t>
                      </a:r>
                      <a:r>
                        <a:rPr b="0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 Будівництво сучасного тваринницького комплексу                                                                з доїльним залом на 2000 кор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130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5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Дворічанський район, ПП "Північ-2006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Будівництво свинокомплексу на 1200 свиномат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20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5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Новодолазький район, ПП АФ "Світанок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Реконструкція свинокомплексу на 1200 свиномат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4598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4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Вовчанський район, СТОВ "Агросвіт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Реконструкція тваринницького комплексу на 300 кор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4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Кегичівський район, ПП "Агропрогрес"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  Реконструкція тваринницького комплексу на 500 кор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1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Золочівський район, ТОВ "Сінтал Агро Трейд"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Реконструкція тваринницького комплексу на 500 корів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5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12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Зміївський район, ФГ "Альянс"</a:t>
                      </a:r>
                      <a:r>
                        <a:rPr b="1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Реконструкція тваринницького комплексу на 500 го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13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1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Краснокутський район, ТОВ "Козііївське"</a:t>
                      </a:r>
                      <a:r>
                        <a:rPr b="0" lang="uk-UA" sz="14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                                                   Реконструкція свинокомплексу на 120 свиномат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34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f000"/>
                          </a:solidFill>
                          <a:latin typeface="Arial"/>
                          <a:ea typeface="Arial"/>
                        </a:rPr>
                        <a:t>6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Динаміка чисельності поголів’я корів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на кінець року, тис. голі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990720"/>
          <a:ext cx="8839440" cy="56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883944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Надій молока на одну корову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по сільськогосподарських підприємствах області, кг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295280"/>
          <a:ext cx="8839440" cy="53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3944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Arial"/>
              </a:rPr>
              <a:t>Прогноз виробництва молока, тис. тонн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5080" y="987480"/>
          <a:ext cx="8775720" cy="56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987480"/>
                    <a:ext cx="87757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Arial"/>
              </a:rPr>
              <a:t>Прогноз чисельності поголів’я свиней, тис. голів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200" y="1450800"/>
          <a:ext cx="8839440" cy="519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450800"/>
                    <a:ext cx="8839440" cy="51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Arial"/>
              </a:rPr>
              <a:t>Прогнозована структура </a:t>
            </a:r>
            <a:br>
              <a:rPr sz="3300"/>
            </a:br>
            <a:r>
              <a:rPr b="1" lang="en-US" sz="3300" spc="-1" strike="noStrike">
                <a:solidFill>
                  <a:srgbClr val="e5e5ff"/>
                </a:solidFill>
                <a:latin typeface="Arial"/>
              </a:rPr>
              <a:t>виробництва м’яса у 2015 році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5000" y="1596960"/>
          <a:ext cx="8916840" cy="50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596960"/>
                    <a:ext cx="891684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Arial"/>
              </a:rPr>
              <a:t>Прогнозовані обсяги фінансування Програми </a:t>
            </a:r>
            <a:br>
              <a:rPr sz="3000"/>
            </a:br>
            <a:r>
              <a:rPr b="1" lang="en-US" sz="3000" spc="-1" strike="noStrike">
                <a:solidFill>
                  <a:srgbClr val="e5e5ff"/>
                </a:solidFill>
                <a:latin typeface="Arial"/>
              </a:rPr>
              <a:t>з обласного бюджету, млн. грн.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1755720"/>
          <a:ext cx="868680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5720"/>
                    <a:ext cx="868680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ks</cp:lastModifiedBy>
  <dcterms:modified xsi:type="dcterms:W3CDTF">2011-04-19T14:17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