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uk-U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52194B-863B-447E-8245-CC08057414BB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5A7F72-C46C-4D3E-9278-E4FEDDDD4A42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42FBC5-4EA1-4984-9F8B-A79CE68E8ABB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ED8FD1-1D1E-4960-9F82-DCBC23200058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A522D3-2737-414C-A366-BA51F8F552B8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83C0B0-8869-4309-9A40-9C4C7EF24489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43583F-4651-43A9-BE8E-586B4C74D6AE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0D6E1A-BC89-4564-B83C-755443B06316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EB7588-2D29-4798-8D5D-991E1E3DF9C1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99BA36-7135-45A5-8E02-066F721391DF}" type="slidenum">
              <a:rPr b="0" lang="uk-U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B2A-96CA-4258-99E2-4812107C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3D-6AF2-4EA5-8732-32169FA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0A7-686F-4B57-9F35-35115557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415-06B3-4F3F-A394-13005E45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194-C2E9-4C31-813F-16D2770F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2C2D-E107-4969-8783-C1C26507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835-EB8A-40AD-95FD-429AF69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7113-66F6-4D42-9B11-8FB6838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1632-6FCD-44A2-BE7B-49EAC2D0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04BE-299F-4875-B2AA-1C070A1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73C1-B37D-4E83-AA79-D7AFBCB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2DF-28A2-4253-8F2A-A7FC5D81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620C-911D-4443-927E-CA93951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39C-BE49-4F92-8870-9B6C758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7441-9E3E-4C43-9430-1CD06CB4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454-9D2E-45A0-9BBE-7135C79E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4107-2FB9-4752-8824-9C0E1DDE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E165-8E7C-4925-B0F7-5D555868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F0D6-799C-4EDD-B6F5-37DE0DA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648C-8DB5-4780-9657-BB599CE2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43A5-9A06-4453-9867-9B92097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39FA-00F6-4B22-B2E4-100F0B79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AFC-35F9-490C-AA30-01DA7D49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05F9-B5B6-48F8-A09B-A845BAE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DEE0-B354-424C-8E6F-2783DDA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9AA9-E546-4F84-BBAA-754518C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82BF-694D-46AC-BA8E-0AC3BDF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F334-A1A4-4231-B1C0-FB64EDFE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C3A4-E157-4E6F-AA65-5DD9BD2E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03D6-BC89-4969-A8BF-7B7102CD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8AC-042E-4B26-9DFD-DFF99CCF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101-44BE-41FD-9850-6C255615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43A-8C11-436E-8748-2B73D9E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FF5-1207-41F5-830C-C7C70D7F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068-F78B-47D3-8C9E-E113568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ADC-1EF4-4FA4-B5AE-B0DEFFC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66E7-2219-49C1-A299-493B5D5A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9AF7-F100-41AB-85CF-99E71C4212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324B-6AAD-415A-A6BA-0DE6542415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2708280"/>
            <a:ext cx="9144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Выступление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директора Департамента агропромышленного развития Харьковской областной государственной администрации 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В.В. Панова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7 сентября 2012 год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422100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«Высокопродуктивное сельско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хозяйство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7" descr="Герб-Харьковской-области"/>
          <p:cNvPicPr/>
          <p:nvPr/>
        </p:nvPicPr>
        <p:blipFill>
          <a:blip r:embed="rId1"/>
          <a:stretch/>
        </p:blipFill>
        <p:spPr>
          <a:xfrm>
            <a:off x="7740720" y="260280"/>
            <a:ext cx="1170000" cy="136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Малый герб Украины copy"/>
          <p:cNvPicPr/>
          <p:nvPr/>
        </p:nvPicPr>
        <p:blipFill>
          <a:blip r:embed="rId2"/>
          <a:stretch/>
        </p:blipFill>
        <p:spPr>
          <a:xfrm>
            <a:off x="250920" y="266760"/>
            <a:ext cx="95256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ка и структура посевных площад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ьскохозяйственных культур по всем категория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 Харьковской области за 1990 – 2012 г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1"/>
          <p:cNvSpPr/>
          <p:nvPr/>
        </p:nvSpPr>
        <p:spPr>
          <a:xfrm>
            <a:off x="8556480" y="63817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9280" y="1133640"/>
          <a:ext cx="8713800" cy="5476680"/>
        </p:xfrm>
        <a:graphic>
          <a:graphicData uri="http://schemas.openxmlformats.org/drawingml/2006/table">
            <a:tbl>
              <a:tblPr/>
              <a:tblGrid>
                <a:gridCol w="2830680"/>
                <a:gridCol w="784080"/>
                <a:gridCol w="685800"/>
                <a:gridCol w="785880"/>
                <a:gridCol w="684360"/>
                <a:gridCol w="784080"/>
                <a:gridCol w="689040"/>
                <a:gridCol w="785880"/>
                <a:gridCol w="684000"/>
              </a:tblGrid>
              <a:tr h="249480"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2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рновые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шеница озим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уру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чмень яр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нические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харная свёк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солне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пс озимый и яр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тофель и овоще-бахч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ощи откр. гру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мовые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я посевная 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ые п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земли в обрабо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0" y="1557360"/>
            <a:ext cx="9144000" cy="79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780000" y="6499080"/>
            <a:ext cx="15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0" y="285264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ритория и численнос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селения Харьков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1"/>
          <p:cNvSpPr/>
          <p:nvPr/>
        </p:nvSpPr>
        <p:spPr>
          <a:xfrm>
            <a:off x="8521560" y="62485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652760"/>
          <a:ext cx="8353440" cy="4776480"/>
        </p:xfrm>
        <a:graphic>
          <a:graphicData uri="http://schemas.openxmlformats.org/drawingml/2006/table">
            <a:tbl>
              <a:tblPr/>
              <a:tblGrid>
                <a:gridCol w="2840040"/>
                <a:gridCol w="2252520"/>
                <a:gridCol w="1619280"/>
                <a:gridCol w="1641600"/>
              </a:tblGrid>
              <a:tr h="36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На начало 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На начало 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Харьковская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место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по Укра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удельный вес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ритория,  кв.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щадь сельскохозяйственных угодий, тыс. 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 площадь паш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селения, тыс.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 сельского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дельный вес сельского населения в общей чис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ка инвестиций в основной капита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ых на развитие сельского хозяйст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ьковской области за 2000 – 2012 год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 гр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8521560" y="62485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1482840"/>
          <a:ext cx="83026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2840"/>
                    <a:ext cx="83026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ёмы приобретения сельскохозяйственной                            техники предприятиями АПК Харьков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1"/>
          <p:cNvSpPr/>
          <p:nvPr/>
        </p:nvSpPr>
        <p:spPr>
          <a:xfrm>
            <a:off x="8556480" y="623736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1628640"/>
          <a:ext cx="8208720" cy="4680000"/>
        </p:xfrm>
        <a:graphic>
          <a:graphicData uri="http://schemas.openxmlformats.org/drawingml/2006/table">
            <a:tbl>
              <a:tblPr/>
              <a:tblGrid>
                <a:gridCol w="3286080"/>
                <a:gridCol w="1193760"/>
                <a:gridCol w="1195560"/>
                <a:gridCol w="1193760"/>
                <a:gridCol w="1339560"/>
              </a:tblGrid>
              <a:tr h="808200"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Перечень приобретённой сельскохозяйственной тех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За 7 месяцев 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кторы всех ма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байны зерноуборо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ялки зерн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ялки кукуруз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и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ыскив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72000" rIns="54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риобретено различной сельскохозяйственной техники на сумму, млн. грив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72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72000" marR="54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ка производства валовой продукции сельского хозяйства по всем категориям хозяйств Харьковской области за 1990-2011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1"/>
          <p:cNvSpPr/>
          <p:nvPr/>
        </p:nvSpPr>
        <p:spPr>
          <a:xfrm>
            <a:off x="8521560" y="62485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1628640"/>
          <a:ext cx="8497800" cy="4684680"/>
        </p:xfrm>
        <a:graphic>
          <a:graphicData uri="http://schemas.openxmlformats.org/drawingml/2006/table">
            <a:tbl>
              <a:tblPr/>
              <a:tblGrid>
                <a:gridCol w="2278080"/>
                <a:gridCol w="1177920"/>
                <a:gridCol w="1081080"/>
                <a:gridCol w="915840"/>
                <a:gridCol w="1173240"/>
                <a:gridCol w="1047600"/>
                <a:gridCol w="824040"/>
              </a:tblGrid>
              <a:tr h="37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В среднем 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1-2005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6-2010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ловая продукция в сопост. ценах 2005 года, млн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растение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животн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1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ексы производства валовой продукции к 1990 год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растение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животн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намика производств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х видов сельскохозяйственной продукци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целом по Харьков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1"/>
          <p:cNvSpPr/>
          <p:nvPr/>
        </p:nvSpPr>
        <p:spPr>
          <a:xfrm>
            <a:off x="8556480" y="63817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484280"/>
          <a:ext cx="8424720" cy="4965840"/>
        </p:xfrm>
        <a:graphic>
          <a:graphicData uri="http://schemas.openxmlformats.org/drawingml/2006/table">
            <a:tbl>
              <a:tblPr/>
              <a:tblGrid>
                <a:gridCol w="3456000"/>
                <a:gridCol w="1062000"/>
                <a:gridCol w="990720"/>
                <a:gridCol w="990360"/>
                <a:gridCol w="992520"/>
                <a:gridCol w="933120"/>
              </a:tblGrid>
              <a:tr h="404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Виды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В среднем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2г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ожи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7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86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0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1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5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6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0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р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харная свё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9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солне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тоф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р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кот и птица (реализация на мясо  в живом вес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йца (млн. шту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2"/>
          <p:cNvSpPr/>
          <p:nvPr/>
        </p:nvSpPr>
        <p:spPr>
          <a:xfrm>
            <a:off x="7270920" y="105264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ыс. тон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развития молочного скотоводств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ельскохозяйственных предприятиях Харьковской области в течение 1990-2011годов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1"/>
          <p:cNvSpPr/>
          <p:nvPr/>
        </p:nvSpPr>
        <p:spPr>
          <a:xfrm>
            <a:off x="8521560" y="62485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569080" cy="5140080"/>
        </p:xfrm>
        <a:graphic>
          <a:graphicData uri="http://schemas.openxmlformats.org/drawingml/2006/table">
            <a:tbl>
              <a:tblPr/>
              <a:tblGrid>
                <a:gridCol w="3517920"/>
                <a:gridCol w="882360"/>
                <a:gridCol w="695520"/>
                <a:gridCol w="693720"/>
                <a:gridCol w="695160"/>
                <a:gridCol w="695520"/>
                <a:gridCol w="693720"/>
                <a:gridCol w="695160"/>
              </a:tblGrid>
              <a:tr h="273960">
                <a:tc rowSpan="2"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Един.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изме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6"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хозяйств учетного круга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д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содержали дойное стадо к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д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т общего количества хозяй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коров в этих хозяйствах на начало 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г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т общей численности коров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ходится коров в среднем на одно хозяйство, содержащее дойное ста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производства молока в целом по хозяйствам учетного 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т общего объема производства молока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ой молока на одну корову, имевшуюся  на начало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нтабельность (+), убыточность (-) молочного скот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54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намика урожайност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х сельскохозяйственных культур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сем категориям хозяйств Харьков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"/>
          <p:cNvSpPr/>
          <p:nvPr/>
        </p:nvSpPr>
        <p:spPr>
          <a:xfrm>
            <a:off x="8521560" y="62485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916280"/>
          <a:ext cx="8353440" cy="4124160"/>
        </p:xfrm>
        <a:graphic>
          <a:graphicData uri="http://schemas.openxmlformats.org/drawingml/2006/table">
            <a:tbl>
              <a:tblPr/>
              <a:tblGrid>
                <a:gridCol w="3355920"/>
                <a:gridCol w="1181160"/>
                <a:gridCol w="1079640"/>
                <a:gridCol w="966600"/>
                <a:gridCol w="884160"/>
                <a:gridCol w="885960"/>
              </a:tblGrid>
              <a:tr h="466560"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В среднем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2г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ожид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6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86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990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1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5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06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0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рновые –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шеница оз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чмень я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уру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харная свё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солне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сельскохозяйств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риятий учетного круга в Харьковск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и и обрабатываем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и площадь сельскохозяйственных угод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1"/>
          <p:cNvSpPr/>
          <p:nvPr/>
        </p:nvSpPr>
        <p:spPr>
          <a:xfrm>
            <a:off x="8556480" y="6381720"/>
            <a:ext cx="5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628640"/>
          <a:ext cx="8642160" cy="4751640"/>
        </p:xfrm>
        <a:graphic>
          <a:graphicData uri="http://schemas.openxmlformats.org/drawingml/2006/table">
            <a:tbl>
              <a:tblPr/>
              <a:tblGrid>
                <a:gridCol w="274680"/>
                <a:gridCol w="3039840"/>
                <a:gridCol w="790560"/>
                <a:gridCol w="808200"/>
                <a:gridCol w="611280"/>
                <a:gridCol w="610920"/>
                <a:gridCol w="647640"/>
                <a:gridCol w="611280"/>
                <a:gridCol w="649440"/>
                <a:gridCol w="598320"/>
              </a:tblGrid>
              <a:tr h="52884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Ед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199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200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2005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200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200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201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011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с. х. предприятий учетного  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д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8840">
                <a:tc rowSpan="4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креплённая за ними площадь: - сельскохозяйственных уго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т всей площади с.х. угод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аш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т всей площади пашни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016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ходится в среднем на 1 хозяйство:- сельскохозяйственных уго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аш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общей площади пашни % арендова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0:16:15Z</dcterms:created>
  <dc:creator>komp-info</dc:creator>
  <dc:description/>
  <dc:language>en-US</dc:language>
  <cp:lastModifiedBy>ragimova</cp:lastModifiedBy>
  <dcterms:modified xsi:type="dcterms:W3CDTF">2012-09-06T09:48:07Z</dcterms:modified>
  <cp:revision>747</cp:revision>
  <dc:subject/>
  <dc:title>Доповідь начальника Головного управління агропромислового  розвитку Харківської обласної державної адміністрації</dc:title>
</cp:coreProperties>
</file>